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360-D547-4886-8EC0-99857683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77E-05BD-45F9-B2B5-D218170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8D6-11BC-4D75-AAAD-57DDF1E6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6FE-4EBA-432E-98D6-944222A7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D57-509A-469C-B2DE-1E87F5E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F63-BF35-49A8-AF4E-ADEF78B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BB7-003D-4D6C-AB8C-DE0EAFB2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592-0688-4216-AF41-1CFB2002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5E9-0ED8-446F-9F82-FFAA9D0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A0C-2816-43CA-8DAA-46DEE3C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F19-F1B2-4094-B3C7-8B1EEA0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2CC-D19D-41FA-A3BE-1E21B2C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0A79-C9E5-4234-A7B7-B37CA3DD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4716360" cy="35370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250920" y="3860640"/>
            <a:ext cx="47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2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н Исус е възлю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лко благ към мен е 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, да бъда аз готов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да приема таз люб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38920" y="260280"/>
            <a:ext cx="2954160" cy="410544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504720" y="3716280"/>
            <a:ext cx="55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лкоз ме обича Той,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че небесния покой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 радост Той за мен презря, слезе тука и умря!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87640" cy="291636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395280" y="393372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Горе в слава при Отц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люби малките деца;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е са грешни - Той е благ; те са слаби - Той е я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9400" y="333360"/>
            <a:ext cx="4530600" cy="339876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324000" y="41497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ко тука слушам аз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з любезен Негов глас, мене Той ще прибер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горе в светлото небе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58:36Z</dcterms:created>
  <dc:creator>TrifonTrifonow</dc:creator>
  <dc:description/>
  <dc:language>en-US</dc:language>
  <cp:lastModifiedBy>TrifonTrifonow</cp:lastModifiedBy>
  <dcterms:modified xsi:type="dcterms:W3CDTF">2005-12-08T10:29:22Z</dcterms:modified>
  <cp:revision>16</cp:revision>
  <dc:subject/>
  <dc:title>Slide 1</dc:title>
</cp:coreProperties>
</file>